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1FB-CB44-4FC9-B63A-15C031A329D5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C10-39E8-44A4-9B92-37250780E07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308C-9580-4E57-99D6-A2BA21BFC2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378-52AE-42DB-97E8-D667739A4BE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1CB9-B64E-45C7-825D-9CE667494B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1A8-DA5D-4956-863A-1B6E95B599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CD7A-6BD1-4748-8913-1A54B2DB65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C84-5BD7-4F62-93D3-DD3249D961E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A necessidade de aumento de produção, da redução de custos e do aumento da qualidade de bens de consumo, tem motivado a constante evolução dos sistemas de produção (ARAÚJO ET AL., 2001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Na entrada do século XXI, com a expansão dos mercados e o uso intensivo de tecnologias, as empresas começaram a lidar com um novo cliente, que exige produtos e serviços de alto nível, obrigando-as a buscar também um novo estilo de gerenciamento e de redefinir as bases da qualidade. Isto impõe que empresas, independente da localização, busquem melhorias contínuas e aperfeiçoem produtos, processos buscando a eliminação dos desperdícios (Brito e Dacol, 2008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No setor de produção do café desde o seu cultivo até o processo de industrialização, também percebe-se essa evolução, ou seja, as buscas por melhoria na qualidade do produto, pela eficácia e eficiência com o qual o mesmo seja produzido e pela redução de custos em contra-partida com o aumento de produção tem-se intensificad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FCF-A361-4F7F-904F-5925E092F4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F3D8-5B01-4D40-9C57-4B4196F5A2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1E89-4C9E-4571-AF65-FDE86648D5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C7F6-83E0-4842-9A7E-BBF29F69C0C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58DE-B847-4934-857C-8AF5DB3D3CF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22E-9D8D-406B-852C-C4D6937E51B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21E-0C19-4A7D-ACD0-4FB31BA1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0E1-74AD-45D4-98BD-06F9A27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382-DD37-4B93-B4C7-1F6985C0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900-FAFA-4CE7-AFD7-48B81B76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D46-A22A-4734-B9AF-4B97B38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17-D828-4534-A4A5-1EDE6FE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66F-B171-4434-A4EB-1DA90D56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B8E-E4C4-4773-9B6F-23A402DF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8AB-BC2B-4F5B-9223-612ABFC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0F0-AC85-40D0-AB0E-DEBCF21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F88-9F1E-4246-B64E-2BF704D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4D9-29BB-454F-BCDC-55F3A43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1C9C-96B7-462A-8DBF-93CF9D786C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wer_po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em Redes de Pe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m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em Redes de Pe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métricas a serem analis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zão de Empaco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P{#Empacotamento&gt;0}*(1/Tempo Médio de Produção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en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número de máquinas Empacotade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ção de Falhas em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proveitamento do Pó de Caf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omia de Ener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proveitamento de Embal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óximos Pas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ita de art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esa da disser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ower_po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1728720" y="1593720"/>
            <a:ext cx="5975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16000" y="2205000"/>
            <a:ext cx="72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92360" y="934920"/>
            <a:ext cx="73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odelagem do Desempenho do Processo de Manufatura - Abordagem as Máquinas da Linha de Produção de uma Empresa do Setor Aliment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0200" y="366552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714680" y="3857760"/>
            <a:ext cx="62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entando: Lubnnia Morais (lmfs2@cin.ufp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entador: Eduardo Tavares (eagt@cin.ufp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6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 do Café – Visão da Indú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em Redes de Pe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óximos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éculo XXI - Expansão dos mer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o tipo de cli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buscam por um novo estilo de gerenciamento e de redefinem as  bases da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lhoria na qualidade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ficácia e efici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dução de custos x Aumento de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33956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ASIL - Produtor e Exportad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30% mercado internacion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Alguns processos de produção, não apresentam desempenho satisfatórios, logo isto pode impactar em toda a cadeia produ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Contribuição à comunidade acadêmica e a empresa do ramo alimentício analis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Prover melhorias no processo de produção através da análise e modelagem do mesm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3" descr=""/>
          <p:cNvPicPr/>
          <p:nvPr/>
        </p:nvPicPr>
        <p:blipFill>
          <a:blip r:embed="rId1"/>
          <a:stretch/>
        </p:blipFill>
        <p:spPr>
          <a:xfrm>
            <a:off x="2170080" y="254160"/>
            <a:ext cx="4803840" cy="4465440"/>
          </a:xfrm>
          <a:prstGeom prst="rect">
            <a:avLst/>
          </a:prstGeom>
          <a:ln w="0">
            <a:noFill/>
          </a:ln>
        </p:spPr>
      </p:pic>
      <p:pic>
        <p:nvPicPr>
          <p:cNvPr id="61" name="CaixaDeTexto 5" descr=""/>
          <p:cNvPicPr/>
          <p:nvPr/>
        </p:nvPicPr>
        <p:blipFill>
          <a:blip r:embed="rId2"/>
          <a:stretch/>
        </p:blipFill>
        <p:spPr>
          <a:xfrm>
            <a:off x="1182600" y="4363920"/>
            <a:ext cx="677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trabalho tem como objetivo geral desenvolver e validar um método formal aplicando os conceitos de Redes de Petri, a fim melhorar o desempenho do processo de produ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r a abordagem e os conceitos de GSPN para modelar desempenho do processo de prod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izar um estudo de ca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alisar o motivo pelo qual está ocorrendo o desperdício de embalagens na fase de empacotamento, bem como a capacidade de produção está sendo insatisfató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 melhorias no processo de produção e implantá-l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5" descr="planta_indust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13:57Z</dcterms:created>
  <dc:creator>Usuario</dc:creator>
  <dc:description/>
  <dc:language>en-US</dc:language>
  <cp:lastModifiedBy>Lubnnia</cp:lastModifiedBy>
  <dcterms:modified xsi:type="dcterms:W3CDTF">2013-03-25T01:11:02Z</dcterms:modified>
  <cp:revision>340</cp:revision>
  <dc:subject/>
  <dc:title>Modelo para apresentaçã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