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12.png" ContentType="image/png"/>
  <Override PartName="/ppt/media/image30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1F7C-2587-4637-9F5A-B9DC5E98E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912024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960" y="4679280"/>
            <a:ext cx="912024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9A5F-340C-4804-A867-563BCEB37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112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3BFF-498C-4062-8A1B-CD3AAE37B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1720" y="20638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5480" y="20638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960" y="46792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1720" y="46792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5480" y="46792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9A67-E801-4602-A91F-D139670FD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15FF-5E4E-41C4-8AC6-54BEA0402C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960" y="2063880"/>
            <a:ext cx="91202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60BB-35B7-4A94-94D2-BEF1135C2D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912024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1F90-AE0C-476E-8A2E-068F81F675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1EB3-8C90-4689-9652-36771251B7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C3D5-16EA-4789-942C-BE3EE28E47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7960" y="212400"/>
            <a:ext cx="91202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F7BF-7685-4517-86C1-467BE8D7A7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56B8-6EEA-44FF-9A1A-9B22683C9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960" y="2063880"/>
            <a:ext cx="91202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646B-E8EE-45F1-9230-F76C919E5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8112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2467-21D3-4E2D-9738-A14654C7A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960" y="4679280"/>
            <a:ext cx="912024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DF52-58C8-46AB-ACB2-AFAF3A4D19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912024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960" y="4679280"/>
            <a:ext cx="912024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993B-514D-4789-831B-09E68A344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96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8112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E4D9-CCCA-40F8-BBEF-A42B9AF509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1720" y="20638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75480" y="20638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960" y="46792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1720" y="46792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75480" y="4679280"/>
            <a:ext cx="29365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7CD0-CE98-43AE-9A19-0404CB339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912024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C066-D286-4DC5-B11B-42A80E0DE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82BF-9DAE-4704-9F52-7F367DCBB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00FC-585B-4E8D-9906-A069A1A58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7960" y="212400"/>
            <a:ext cx="91202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C721-B8B2-4ECA-A12F-C5BF56502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96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F9CE-49C6-49D6-891C-A1EEF629D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1120" y="46792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E26D-7B6A-4712-9104-E20A4AC7D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1120" y="2063880"/>
            <a:ext cx="445032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679280"/>
            <a:ext cx="9120240" cy="238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2D08-A7D6-4716-A74B-2E1AC3406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-11798280" y="-11798280"/>
            <a:ext cx="11790360" cy="11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8D79177-651E-4B49-A29C-6527D01563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507600" y="1782720"/>
            <a:ext cx="89298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212400"/>
            <a:ext cx="9120240" cy="146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7960" y="2063880"/>
            <a:ext cx="9120240" cy="500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0360" cy="11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1E900DA-5E70-45C7-972E-27F2AFF64E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57160" y="1881360"/>
            <a:ext cx="84456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álise de Sensibilidade de Modelos Hierárquicos para Computação em Nuv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3080" y="5524560"/>
            <a:ext cx="5333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ubens de Souza Matos Júni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entador: Prof. Paulo Maci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Estudo de cas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600" y="1800360"/>
            <a:ext cx="57196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odelos de disponibilidad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ara  ambientes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Eucalyptu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 nuvem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roid Sans"/>
              </a:rPr>
              <a:t>Incluindo eventos de falha/reparo de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  <a:ea typeface="Droid Sans"/>
              </a:rPr>
              <a:t>hardware 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onentes Eucalyp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roid Sans"/>
              </a:rPr>
              <a:t>Cloud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roid Sans"/>
              </a:rPr>
              <a:t>Cluster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roid Sans"/>
              </a:rPr>
              <a:t>Storage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roid Sans"/>
              </a:rPr>
              <a:t>Node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roid Sans"/>
              </a:rPr>
              <a:t>Wal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9640" y="2022480"/>
            <a:ext cx="367200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Estudo de cas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4248000"/>
            <a:ext cx="8928360" cy="26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oladores da Nuvem e do Cluster redund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Droid Sans"/>
              </a:rPr>
              <a:t>Mecanismo Warm-stan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odelos hierárqu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R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CT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mbos modelos podem ser resolvidos através de </a:t>
            </a:r>
            <a:r>
              <a:rPr b="0" lang="en-GB" sz="2200" spc="-1" strike="noStrike">
                <a:solidFill>
                  <a:srgbClr val="0000ff"/>
                </a:solidFill>
                <a:latin typeface="Calibri"/>
              </a:rPr>
              <a:t>equações de forma fech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6840" y="1655640"/>
            <a:ext cx="52657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82640" y="1947960"/>
            <a:ext cx="3429000" cy="499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7960" y="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los para arquitetura redun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45080" y="316692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95640" y="4176720"/>
            <a:ext cx="792000" cy="647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02040" y="1631880"/>
            <a:ext cx="17510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 compl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27640" y="2340000"/>
            <a:ext cx="28638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stema do Controlador da Cloud/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52720" y="2465280"/>
            <a:ext cx="809640" cy="79236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0" idx="2"/>
            <a:endCxn id="149" idx="2"/>
          </p:cNvCxnSpPr>
          <p:nvPr/>
        </p:nvCxnSpPr>
        <p:spPr>
          <a:xfrm>
            <a:off x="2592000" y="4824360"/>
            <a:ext cx="4321800" cy="575280"/>
          </a:xfrm>
          <a:prstGeom prst="bentConnector3">
            <a:avLst>
              <a:gd name="adj1" fmla="val 50000"/>
            </a:avLst>
          </a:prstGeom>
          <a:ln w="3600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155" name=""/>
          <p:cNvCxnSpPr>
            <a:stCxn id="153" idx="2"/>
            <a:endCxn id="149" idx="2"/>
          </p:cNvCxnSpPr>
          <p:nvPr/>
        </p:nvCxnSpPr>
        <p:spPr>
          <a:xfrm>
            <a:off x="3357360" y="3257640"/>
            <a:ext cx="3556440" cy="2141640"/>
          </a:xfrm>
          <a:prstGeom prst="bentConnector3">
            <a:avLst>
              <a:gd name="adj1" fmla="val 50000"/>
            </a:avLst>
          </a:prstGeom>
          <a:ln w="36000">
            <a:solidFill>
              <a:srgbClr val="ff0000"/>
            </a:solidFill>
            <a:round/>
            <a:tailEnd len="med" type="triangle" w="med"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elos para arquitetura redund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4320" y="4295880"/>
            <a:ext cx="4748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ção significativa do dow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35280" y="5916600"/>
            <a:ext cx="5402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se quisermo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lhor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se sistema ainda ma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is componentes/parâmetros merecem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orid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5440" y="2066760"/>
            <a:ext cx="6659280" cy="1497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 flipV="1">
            <a:off x="4776480" y="3414240"/>
            <a:ext cx="700200" cy="808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651640" y="3376080"/>
            <a:ext cx="900000" cy="876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30560" y="5111640"/>
            <a:ext cx="6732720" cy="1276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o R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92720" y="1814400"/>
            <a:ext cx="309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onibilidade do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92720" y="4003560"/>
            <a:ext cx="3527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ibilidade da Disponi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0" t="70142" r="0" b="0"/>
          <a:stretch/>
        </p:blipFill>
        <p:spPr>
          <a:xfrm>
            <a:off x="4719600" y="2879640"/>
            <a:ext cx="34178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46920" y="3600360"/>
            <a:ext cx="320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8720" y="374328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77080" y="3543480"/>
            <a:ext cx="1727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valiação d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deia de Mark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11640" y="5040360"/>
            <a:ext cx="792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60360" y="1871640"/>
            <a:ext cx="2808360" cy="424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327640" y="3427560"/>
            <a:ext cx="79056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400720" y="3708360"/>
            <a:ext cx="704880" cy="37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032360" y="2376360"/>
            <a:ext cx="4680000" cy="43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9640" y="5832360"/>
            <a:ext cx="792360" cy="647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4960" y="5827680"/>
            <a:ext cx="792360" cy="647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122640" y="4556160"/>
            <a:ext cx="2276280" cy="5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elo R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9080" y="3743280"/>
            <a:ext cx="3095640" cy="244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8720" y="4529160"/>
            <a:ext cx="3456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Índice de sensibilidade para modelo com CLC e CC redund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687920" y="3637080"/>
                <a:ext cx="6285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L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5353200" y="3887640"/>
            <a:ext cx="65880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3564000"/>
            <a:ext cx="31561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culados com a ajuda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frameworks de álgebra computacion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GiNaC, Wolfram Mathema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808360" y="1871640"/>
            <a:ext cx="718020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95640" y="2735280"/>
            <a:ext cx="6480000" cy="5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687920" y="4249800"/>
                <a:ext cx="5605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 flipV="1">
            <a:off x="5327640" y="4172040"/>
            <a:ext cx="684360" cy="296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696000" y="5057640"/>
            <a:ext cx="281952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431120" y="2808360"/>
            <a:ext cx="2698560" cy="2303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ificação d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97880" y="3063960"/>
            <a:ext cx="2324160" cy="895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17360" y="1682640"/>
            <a:ext cx="3770280" cy="2638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743280" y="1763640"/>
            <a:ext cx="3676680" cy="2600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6320" y="4392720"/>
            <a:ext cx="3703680" cy="2560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780000" y="4363920"/>
            <a:ext cx="372240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94400" y="2340000"/>
            <a:ext cx="2698920" cy="230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ificação d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7880" y="3456000"/>
            <a:ext cx="235260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7240" y="1720800"/>
            <a:ext cx="3722760" cy="2600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760920" y="1720800"/>
            <a:ext cx="3619440" cy="2600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6360" y="4319640"/>
            <a:ext cx="3722760" cy="257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735360" y="4284720"/>
            <a:ext cx="37512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timização guiada pela análise de sensibi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960" y="1811160"/>
            <a:ext cx="91296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mposição de web services (mash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Pode haver muitos provedores possíveis para o mesmo serviç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Google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Yahoo Place 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Four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Identificar a combinação de </a:t>
            </a:r>
            <a:r>
              <a:rPr b="0" lang="en-GB" sz="2200" spc="-1" strike="noStrike">
                <a:solidFill>
                  <a:srgbClr val="0000ff"/>
                </a:solidFill>
                <a:latin typeface="Calibri"/>
                <a:ea typeface="Droid Sans"/>
              </a:rPr>
              <a:t>provedores de serviço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 que resultará no melhor </a:t>
            </a:r>
            <a:r>
              <a:rPr b="0" lang="en-GB" sz="2200" spc="-1" strike="noStrike">
                <a:solidFill>
                  <a:srgbClr val="0000ff"/>
                </a:solidFill>
                <a:latin typeface="Calibri"/>
                <a:ea typeface="Droid Sans"/>
              </a:rPr>
              <a:t>desempenho e confiabilidad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 para a aplic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Uso de </a:t>
            </a:r>
            <a:r>
              <a:rPr b="0" lang="en-GB" sz="2200" spc="-1" strike="noStrike">
                <a:solidFill>
                  <a:srgbClr val="0000ff"/>
                </a:solidFill>
                <a:latin typeface="Calibri"/>
                <a:ea typeface="Droid Sans"/>
              </a:rPr>
              <a:t>índices de sensibilidad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 como heurística para melhorar </a:t>
            </a:r>
            <a:r>
              <a:rPr b="0" lang="en-GB" sz="2200" spc="-1" strike="noStrike">
                <a:solidFill>
                  <a:srgbClr val="0000ff"/>
                </a:solidFill>
                <a:latin typeface="Calibri"/>
                <a:ea typeface="Droid Sans"/>
              </a:rPr>
              <a:t>algoritmos de otimização tais como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 o GRASP (Greedy Randomized Adaptive Search Proced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7960" y="2063880"/>
            <a:ext cx="91296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estar o uso A.S. no algoritmo de otimiz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luir funções de A.S. de modelos hierárquicos no Mercu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roid Sans"/>
              </a:rPr>
              <a:t>Experimentos para validar os resultados de alguns cená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roid Sans"/>
              </a:rPr>
              <a:t>Comparar os resultados índices de derivadas parciais com os resultados de DoE fat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960" y="1866960"/>
            <a:ext cx="91296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ceitos de Análise de Sensibilid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étodos de composição de índ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studo de cas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960" y="1722600"/>
            <a:ext cx="91296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utação em nuvem é usada/almejada por várias empre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o propor melhorias de desempenho/dependabilidade para sistemas complexos tais como as nuvens computaciona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Muitos componentes de hardware e software altamente acop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roid Sans"/>
              </a:rPr>
              <a:t>Modelos hierárquicos facilitam a descrição desses sistemas e o tratamento de largeness e stiff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6880" y="4572000"/>
            <a:ext cx="3024360" cy="2665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43280" y="5184720"/>
            <a:ext cx="2970360" cy="1755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23000" y="4756320"/>
            <a:ext cx="3435480" cy="607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66120" y="5613480"/>
            <a:ext cx="200016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960" y="1847880"/>
            <a:ext cx="91296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nálise de sensibilida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Métodos para verificar o quanto as mudanças nos parâmetros de entrada irão afetar as saídas (resultados) de um sistema/mode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Técnica essencial para detecção de “gargalos” de desempenho/dependabil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roid Sans"/>
              </a:rPr>
              <a:t>Variação dos parâmetros, um por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roid Sans"/>
              </a:rPr>
              <a:t>Análise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roid Sans"/>
              </a:rPr>
              <a:t>Análise de correlação/reg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roid Sans"/>
              </a:rPr>
              <a:t>Design of Experiments: Full-factorial, 2k-Factorial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73520" y="6350040"/>
            <a:ext cx="1292400" cy="1068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78240" y="6710400"/>
            <a:ext cx="1292040" cy="709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69160" y="6886440"/>
            <a:ext cx="1292040" cy="530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51280" y="5935680"/>
            <a:ext cx="1263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  <a:ea typeface="Verdana"/>
              </a:rPr>
              <a:t>MTTF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78240" y="6327720"/>
            <a:ext cx="12301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  <a:ea typeface="Verdana"/>
              </a:rPr>
              <a:t>MTTR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27840" y="6454800"/>
            <a:ext cx="1276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  <a:ea typeface="Verdana"/>
              </a:rPr>
              <a:t>MTTF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960" y="1811160"/>
            <a:ext cx="91296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nálise de sensibilidade em modelos hierárquico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Combinar índices de sensibilidade e vários mod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27800" y="3660840"/>
            <a:ext cx="2792160" cy="493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682720" y="3084480"/>
            <a:ext cx="1511280" cy="1949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047" t="3743" r="5477" b="3655"/>
          <a:stretch/>
        </p:blipFill>
        <p:spPr>
          <a:xfrm>
            <a:off x="5151600" y="4861080"/>
            <a:ext cx="1874520" cy="178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994520" y="5388120"/>
            <a:ext cx="1650960" cy="89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709720" y="5510160"/>
            <a:ext cx="1190880" cy="959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440" y="3708360"/>
            <a:ext cx="1546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erárquico homogên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5664240"/>
            <a:ext cx="1478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erárquico heterogên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60" y="2063880"/>
            <a:ext cx="91296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457200" indent="-455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rincipais contribuições esperad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Criação de modelos abragendo nível de aplicação e de infraestrutura (Software executando em Ia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Inclusão de aspectos de aspectos de envelhecimento de software nos modelos de desempenho e dependabilida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roid Sans"/>
              </a:rPr>
              <a:t>Análise de sensibilidade automatizada dos modelos hierárqu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Análise de Sensibilidade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55640" y="1871640"/>
            <a:ext cx="74041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05160" y="3527280"/>
            <a:ext cx="1914480" cy="82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71960" y="4336920"/>
            <a:ext cx="2766960" cy="917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7960" y="1871640"/>
            <a:ext cx="914076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700200" indent="-449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002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68364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Análise diferencial (A.S. 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0200" indent="-449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002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68364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Derivada parcial da métrica Y com relação a cada parâmetro λ_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0200" indent="-4492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002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683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0200" indent="-4492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002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683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0200" indent="-4492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002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683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0200" indent="-449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002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68364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Existem métodos e ferramentas para análise de sensibilidade de modelos simples CTMC, SPN e QN* (não-hierárqu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Análise de Sensibilida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07960" y="216000"/>
            <a:ext cx="9139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.S. em Modelos Hierárqu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6720" y="2771640"/>
            <a:ext cx="792000" cy="5032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03640" y="2771640"/>
            <a:ext cx="792000" cy="5032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27280" y="2771640"/>
            <a:ext cx="792360" cy="50328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280" y="2952720"/>
            <a:ext cx="144360" cy="144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06920" y="2951280"/>
            <a:ext cx="144360" cy="144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5" idx="6"/>
            <a:endCxn id="122" idx="1"/>
          </p:cNvCxnSpPr>
          <p:nvPr/>
        </p:nvCxnSpPr>
        <p:spPr>
          <a:xfrm flipV="1">
            <a:off x="647280" y="3021840"/>
            <a:ext cx="289440" cy="2520"/>
          </a:xfrm>
          <a:prstGeom prst="bentConnector3">
            <a:avLst>
              <a:gd name="adj1" fmla="val 49937"/>
            </a:avLst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128" name=""/>
          <p:cNvCxnSpPr>
            <a:stCxn id="122" idx="3"/>
            <a:endCxn id="123" idx="1"/>
          </p:cNvCxnSpPr>
          <p:nvPr/>
        </p:nvCxnSpPr>
        <p:spPr>
          <a:xfrm>
            <a:off x="1728360" y="3022200"/>
            <a:ext cx="5756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129" name=""/>
          <p:cNvCxnSpPr>
            <a:stCxn id="123" idx="3"/>
            <a:endCxn id="124" idx="1"/>
          </p:cNvCxnSpPr>
          <p:nvPr/>
        </p:nvCxnSpPr>
        <p:spPr>
          <a:xfrm>
            <a:off x="3095280" y="302220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130" name=""/>
          <p:cNvCxnSpPr>
            <a:stCxn id="124" idx="3"/>
            <a:endCxn id="126" idx="2"/>
          </p:cNvCxnSpPr>
          <p:nvPr/>
        </p:nvCxnSpPr>
        <p:spPr>
          <a:xfrm>
            <a:off x="4319640" y="3022200"/>
            <a:ext cx="288000" cy="2520"/>
          </a:xfrm>
          <a:prstGeom prst="bentConnector3">
            <a:avLst>
              <a:gd name="adj1" fmla="val 49937"/>
            </a:avLst>
          </a:prstGeom>
          <a:ln w="9360">
            <a:solidFill>
              <a:srgbClr val="808080"/>
            </a:solidFill>
            <a:round/>
          </a:ln>
        </p:spPr>
      </p:cxn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527280" y="4449600"/>
                <a:ext cx="408780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ivo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TT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TT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MTTR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TT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T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T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199280" y="2376360"/>
            <a:ext cx="576360" cy="576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3640" y="2374920"/>
            <a:ext cx="576360" cy="576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91640" y="3311640"/>
            <a:ext cx="576000" cy="5760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ai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2" idx="0"/>
            <a:endCxn id="133" idx="0"/>
          </p:cNvCxnSpPr>
          <p:nvPr/>
        </p:nvCxnSpPr>
        <p:spPr>
          <a:xfrm flipV="1">
            <a:off x="7488000" y="2374560"/>
            <a:ext cx="1585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6" name=""/>
          <p:cNvCxnSpPr>
            <a:stCxn id="133" idx="4"/>
            <a:endCxn id="134" idx="6"/>
          </p:cNvCxnSpPr>
          <p:nvPr/>
        </p:nvCxnSpPr>
        <p:spPr>
          <a:xfrm flipV="1" rot="10800000">
            <a:off x="8566920" y="2950920"/>
            <a:ext cx="504000" cy="64980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7" name=""/>
          <p:cNvCxnSpPr>
            <a:stCxn id="134" idx="2"/>
            <a:endCxn id="132" idx="4"/>
          </p:cNvCxnSpPr>
          <p:nvPr/>
        </p:nvCxnSpPr>
        <p:spPr>
          <a:xfrm rot="10800000">
            <a:off x="7487640" y="2952000"/>
            <a:ext cx="504000" cy="64692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848720" y="1908000"/>
            <a:ext cx="7984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MT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64720" y="3168720"/>
            <a:ext cx="81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MT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69080" y="3276720"/>
            <a:ext cx="81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M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