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8835-A61E-497E-AD6A-FCBD68039FE0}" type="datetime">
              <a:rPr b="0" lang="pt-BR" sz="13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DC1F-9828-4975-8882-0F667878AAE2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A35-3824-484C-B44F-DC1B9974E81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6B20-50D0-4DB5-BEAE-3FBEF0A1B2DB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FE5-0904-42CE-B2A2-AC8D1E2B19DB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9E2-C3DB-432B-8B4C-01A19B71678E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Calibri"/>
              </a:rPr>
              <a:t>Em todo processo da cadeia de suprimento, ocorrem vários eventos discretos, como a chegada dos componentes que compõe o produto final, o início da produção no fabricante, e assim por diante. Portanto, as redes da cadeia de suprimentos   são  sistemas dinâmico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FDCB-C3EA-4E9A-9F71-1475611ADAB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DF60-5460-41FC-8D86-3A2A633CBD23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380-49BA-4317-B48D-6554BA1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398-C270-4E41-BA68-799A0A6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FCF-EC64-4803-A2FD-6844504C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6ED-D4C5-432D-94AD-4EB4F576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C9B-3A2B-479C-8EF8-4F6CB62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CC1-84C8-466A-9A9E-94F5847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D1E-5CCD-48DC-AFCF-81A4001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571-F7C4-450C-8B4C-3C051CE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CAA-DDA5-4E08-8FBE-93BBA51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788-0D3C-4432-87F3-FEF0B29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FC2-47C1-4C58-9FA6-E53A5F0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852-EB4A-4280-B49A-7561CEF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509-7644-4793-A7B8-C833861ECD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wer_po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476360" y="431784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rient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derson Elias(aen@cin.ufp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ri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duardo Tavares (eagt@cin.ufpe.b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ét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2864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renciar o estoque do almoxarifado de matéria-p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édia do Estoque do Almoxarifa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pt-BR" sz="1600" spc="-1" strike="noStrike">
                <a:solidFill>
                  <a:srgbClr val="0070c0"/>
                </a:solidFill>
                <a:latin typeface="Calibri"/>
              </a:rPr>
              <a:t>E{#Estoque_Almoxarifado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roughput de transições temporizadas(representando atrasos logíst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azão de Recebimento da Matéria-Prima para o Almoxarifado: </a:t>
            </a:r>
            <a:r>
              <a:rPr b="0" lang="pt-BR" sz="1600" spc="-1" strike="noStrike">
                <a:solidFill>
                  <a:srgbClr val="0070c0"/>
                </a:solidFill>
                <a:latin typeface="Calibri"/>
              </a:rPr>
              <a:t>(P{#Recebimento=1}*(1/Tempo2Recebimento)/NumFases)+(P{#Recebimento=2}*2*(1/Tempo2Recebimento)/NumFases)+(P{#Recebimento=1}*3*(1/Tempo2Recebimento)/NumFases)... (P{#Recebimento=n}*n*(1/Tempo2Recebimento)/NumF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773360"/>
          <a:ext cx="3168360" cy="1800000"/>
        </p:xfrm>
        <a:graphic>
          <a:graphicData uri="http://schemas.openxmlformats.org/drawingml/2006/table">
            <a:tbl>
              <a:tblPr/>
              <a:tblGrid>
                <a:gridCol w="820440"/>
                <a:gridCol w="1173240"/>
                <a:gridCol w="1174680"/>
              </a:tblGrid>
              <a:tr h="37620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zão de Receb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o - 1/</a:t>
                      </a: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ado - 1/</a:t>
                      </a: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0718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7254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0833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3296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6129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16307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º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4425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85829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Gráfico 5" descr=""/>
          <p:cNvPicPr/>
          <p:nvPr/>
        </p:nvPicPr>
        <p:blipFill>
          <a:blip r:embed="rId1"/>
          <a:stretch/>
        </p:blipFill>
        <p:spPr>
          <a:xfrm>
            <a:off x="3773520" y="1768320"/>
            <a:ext cx="5052960" cy="368172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684360" y="4149720"/>
            <a:ext cx="302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MS PGothic"/>
              </a:rPr>
              <a:t>Validação dos dados medido com os dados simulados em períodos mensais ao longo de quatro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773360"/>
          <a:ext cx="3047760" cy="1143000"/>
        </p:xfrm>
        <a:graphic>
          <a:graphicData uri="http://schemas.openxmlformats.org/drawingml/2006/table">
            <a:tbl>
              <a:tblPr/>
              <a:tblGrid>
                <a:gridCol w="788760"/>
                <a:gridCol w="1130400"/>
                <a:gridCol w="1128600"/>
              </a:tblGrid>
              <a:tr h="19044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zão de Receb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o - 1/</a:t>
                      </a: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ado - 1/</a:t>
                      </a: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Bimes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0467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4654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Bimes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0138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88558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Gráfico 5" descr=""/>
          <p:cNvPicPr/>
          <p:nvPr/>
        </p:nvPicPr>
        <p:blipFill>
          <a:blip r:embed="rId1"/>
          <a:stretch/>
        </p:blipFill>
        <p:spPr>
          <a:xfrm>
            <a:off x="3919680" y="1620720"/>
            <a:ext cx="4906800" cy="3689640"/>
          </a:xfrm>
          <a:prstGeom prst="rect">
            <a:avLst/>
          </a:prstGeom>
          <a:ln w="0">
            <a:noFill/>
          </a:ln>
        </p:spPr>
      </p:pic>
      <p:sp>
        <p:nvSpPr>
          <p:cNvPr id="76" name="Content Placeholder 2"/>
          <p:cNvSpPr/>
          <p:nvPr/>
        </p:nvSpPr>
        <p:spPr>
          <a:xfrm>
            <a:off x="684360" y="4149720"/>
            <a:ext cx="302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MS PGothic"/>
              </a:rPr>
              <a:t>Validação dos dados medido com os dados simulados em períodos bimestrais ao longo de dois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41264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ção de cen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ção de modelos de fa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udo sobre logística re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3640" y="980640"/>
            <a:ext cx="8567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. M. Beamon, “Supply chain design and analysis: models and methods”, Int. J. Prod. Econ., Vol. 55, No. 3, pp.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81-294, 1998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. Amodeo, H. X. Chen, and A. E. Hadji, “Supply chain inventory optimization with multiple objectives: an industrial case study”, Advances in Computational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ntelligence, SCI 144, pp. 211-230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NIOR, G. A. A. Avaliação de Desempenho de Cadeias de Suprimento utilizando Componentes GSPN. 2007. 234 f. Tese (Mestrado em Ciência da Computação) - Centro de Informática, Universidade Federal de Pernambuco, Recife.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IANG Yanhui, YAO Kaohua. 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Supply Chain Integration based on Petri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et Thoer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. International Conference on E-Business and E-Government.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Xiaoling Zhang, Qiang Lu, Teresa Wu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ri-Net Based Application for Supply Chain Management: An Overview - Sponsor and Financial Support: National Natural Science Foundation of China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L. Lee, V. Padmanabhan, and S. Whang. The Bullwhip Eect in Supply Chain. Sloan Management Review, 38(3), 199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G. Balbo. Introduction to Stochastic Petri Nets. LNCS 2090, pages 84pp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. A. Marsan, G. Balbo, G. Conte, S. Donatelli, and G. Franceschinis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lling with Generalized Stochastic Petri Nets. John Wiley and Sons,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403280" y="2205000"/>
            <a:ext cx="7294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Calibri"/>
              </a:rPr>
              <a:t>Modelo de desempenho da Logística de Suprimentos, em uma indústria de produtos alimentí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2920" y="1268280"/>
            <a:ext cx="7294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lu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delo Formal (GSP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é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er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empresas através do gerenciamento da cadeia de suprimento (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Supply Chain Management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 SCM) objetivam principalmente aumentar de forma considerável o valor percebido dos seus produtos que serão entregues ao consumidor f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gestão da cadeia de suprimento visa atingir o equilíbrio entre o custo e o nível do produto para o cliente que se resume no alcance de vantagens competitivas d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is macro-processos subdividem a logística da cadeia de supri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Logística de suprimentos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(Logística de Entrada)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sponsável pela movimentação e armazenagem de matérias-primas até a manuf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lanejamento de  Aquisição, Produção e Processo de Controle de Esto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Logística de distribuição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(Logística de Saída)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fere-se às diferentes atividades realizadas desde a manufatura do produto, até a sua entrega no cliente f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cesso de Distribuição e Log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12536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gestores das áreas envolvidas, procuram atender a critérios de desempenho satisfatórios, e evitar gargalos em subprocessos que podem chegar à impactar em toda cadeia de sup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m dos formalismos que representa bem uma cadeias de suprimentos é Redes de Petri. Onde especificações e modelagens de sistemas concorrentes e estocásticos podem ser represen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foco deste trabalho será na avaliação de desempenho d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logística de supriment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s cadeias de suprim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rnecer estimativas de acordo com a demanda de matéria-prima por parte da linha de produ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nalisar gargalos internos nos subprocessos  que envolvem a logística de supr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rão construídos modelos formais de Redes de Petri Estocástica para demonstrar aspectos relevantes da logística de sup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ugerir melhorias no processo da Logística de Supri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4" descr="SupplyChains_LogisticaDeSuprimento.png"/>
          <p:cNvPicPr/>
          <p:nvPr/>
        </p:nvPicPr>
        <p:blipFill>
          <a:blip r:embed="rId1"/>
          <a:stretch/>
        </p:blipFill>
        <p:spPr>
          <a:xfrm>
            <a:off x="950760" y="907920"/>
            <a:ext cx="7231320" cy="511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uxo (Visão Macr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Modelo – Rede de Petri Estocás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197000"/>
            <a:ext cx="8570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cesso caracterizado como Logística de Entrada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(Aquisição de Matéria-Prima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4" descr="Production4_AlmoxarifadoCompras.png"/>
          <p:cNvPicPr/>
          <p:nvPr/>
        </p:nvPicPr>
        <p:blipFill>
          <a:blip r:embed="rId1"/>
          <a:stretch/>
        </p:blipFill>
        <p:spPr>
          <a:xfrm>
            <a:off x="611280" y="2060640"/>
            <a:ext cx="9142200" cy="5035320"/>
          </a:xfrm>
          <a:prstGeom prst="rect">
            <a:avLst/>
          </a:prstGeom>
          <a:ln w="0">
            <a:noFill/>
          </a:ln>
        </p:spPr>
      </p:pic>
      <p:sp>
        <p:nvSpPr>
          <p:cNvPr id="66" name="Content Placeholder 2"/>
          <p:cNvSpPr/>
          <p:nvPr/>
        </p:nvSpPr>
        <p:spPr>
          <a:xfrm>
            <a:off x="3851280" y="4941720"/>
            <a:ext cx="5041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Logística da aquisição da matéria-prima,   estoque e consumo para linha de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13:57Z</dcterms:created>
  <dc:creator>Usuario</dc:creator>
  <dc:description/>
  <dc:language>en-US</dc:language>
  <cp:lastModifiedBy>Anderson Elias</cp:lastModifiedBy>
  <dcterms:modified xsi:type="dcterms:W3CDTF">2013-03-25T14:49:48Z</dcterms:modified>
  <cp:revision>689</cp:revision>
  <dc:subject/>
  <dc:title>Modelo para apresentaçã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