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F7E0-C0E1-4F63-B05C-C5425CB0E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4A30-65E2-4860-BEA1-8CBA51394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AFB6-B201-4CE2-9899-334D80B4C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532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834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76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532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834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E1A8-63C1-4534-9E6F-47EB0732F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E23E-3069-4F2C-BFB7-01F2E0332E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10AD-6979-4F79-9B4B-8BE1DC7DE9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C406-025E-4BB8-9409-470EADC01E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63BB-1887-4626-9DBA-C5C424DFC4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01A8-4E44-41BF-805F-074E0BC70D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7600" y="303120"/>
            <a:ext cx="91328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BF13-78DB-4EDF-98A1-F5088C7A13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1AAA-F83A-4973-BD7E-22268A5FD6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6072-A993-4127-A75F-5D3CA68AA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CE5E3-9A9E-4931-B921-81BE5FBB12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4910-DEA2-4478-8C34-2084BDBEEE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F1A4-FE1C-4D2D-8767-06A45F2F9D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3995-4320-41C3-AFC6-B8FA992A19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9532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34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76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9532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834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32D6-558B-4AA3-A0F9-FF375C09B3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ED2-54E4-4E38-889C-004E53A8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194-670F-4FD9-9793-507C357D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E14-EDBB-4075-9BD3-8A7AF758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5FF-9C73-4281-A0FB-B739729F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D20-486D-44EF-8FF2-B7A68543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8296-0D7D-471A-B74B-54A32DD323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7600" y="303120"/>
            <a:ext cx="91328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E48-C2B4-4995-B558-A2E97304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46D-47F1-4D8F-AFA1-EE4C878C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82D-5126-4036-86DF-E3290050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8B9-E40F-4522-9D5B-A2BD66C0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A47-2581-410E-800A-D7CA7580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D01-3FF1-4E46-953E-0169D198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9532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834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76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9532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6834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450-76B4-4DD0-861B-00049709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257F-31E9-4853-B196-0A75A00636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0E67-F236-483D-9684-0B4269634E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4105-188E-4BA0-A7C7-77861FE44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3DC1-C97B-4201-BE9F-4343ADA158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9A6A-F29E-404A-9046-ECD67B7FD5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543D-426A-41B8-BCF5-4D519AC4A7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07600" y="303120"/>
            <a:ext cx="91328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A2FC-D62A-478D-9F06-56A50F9E08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B317-38AC-4830-BA7F-75D963E65B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C811-BA2C-4EE5-9C86-21B05C724B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9327-5FDD-4F71-B506-B3D4AF05CE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5F06-A2AE-42C9-87B5-D61B5A86B1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E508-ED65-4962-A295-ABBF7AD863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9532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6834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76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9532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6834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4A12-E47F-4A11-BF85-8D0D783CB0A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486CA4-E29C-4F5D-9C2B-AC9562825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989A-984E-492B-9836-7C503CFBE0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677FDA-B2B4-4BF4-900F-638A11B0FD8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9C5645-0F69-44AF-97E0-1F3D7758BD9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1EDEF-D5D3-4010-B6FC-D8D5FEC63B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1C2721-D3E5-4B76-A0A2-25A7C4B8C27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07600" y="303120"/>
            <a:ext cx="91328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B7AC34-3972-4695-B24A-BC84BFB977D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40194-7078-4FA2-936E-17FDD06A452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8DAFB-537A-4C82-AC5C-E670BEC6B9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E45B5-4FAA-4FB1-9705-165DC62211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84F655-F26A-4B67-B508-E2E8C3DB2B2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C29FD-4189-4BD3-869C-8D60F5225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7600" y="303120"/>
            <a:ext cx="91328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8A4B-6FD4-4FD7-AF7C-30E1E9DFAA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9532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6834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076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9532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6834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AB47E-8A3E-477E-9D6A-652E83E7FFC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8EAD0-3DD5-4E06-A7A9-D573B1C2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FB08A-22C3-4E57-AC12-9AEE2B74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A265F-536F-4C0C-9DBA-E6368107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9E1AE-7DCB-461A-AAFF-77D4F94A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CE55F-05CF-4879-A7FF-33880C2D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507600" y="303120"/>
            <a:ext cx="91328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48B5D-630A-42E4-BA48-47AF8E8B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13429-D3C3-471B-8625-10585F89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69A70-7877-4F1E-8387-9974B0AC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7011E-C8C2-417F-88BD-47F8252E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8B6E-26FC-4430-B361-78CFE5905F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7AF78-1E0F-4A6E-8134-B2D97BD8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093AA-6E63-4D7C-BB83-24BAEE03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9532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83400" y="178272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76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9532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683400" y="4404960"/>
            <a:ext cx="294048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B8E0D-25B5-432E-BD9A-BE9658BE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7600" y="440496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5E71-4E72-4A21-BD1B-9FADBF4E6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7600" y="1782720"/>
            <a:ext cx="44568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600" y="4404960"/>
            <a:ext cx="913284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9472-A2AE-4145-A57C-455F6541A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396720" y="6686640"/>
            <a:ext cx="174636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555480" y="1666800"/>
            <a:ext cx="7999560" cy="1800"/>
          </a:xfrm>
          <a:prstGeom prst="line">
            <a:avLst/>
          </a:prstGeom>
          <a:ln w="698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3"/>
          <p:cNvSpPr/>
          <p:nvPr/>
        </p:nvSpPr>
        <p:spPr>
          <a:xfrm>
            <a:off x="1084320" y="6826320"/>
            <a:ext cx="8597880" cy="144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513560" y="1031760"/>
            <a:ext cx="216864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212760"/>
            <a:ext cx="91296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Gill Sans MT Condensed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7960" y="2063880"/>
            <a:ext cx="9129600" cy="5016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470400" y="7062840"/>
            <a:ext cx="32176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148240" y="7075080"/>
            <a:ext cx="2357640" cy="46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C3C34-92DA-4602-9784-D31E5F4DD2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2" descr="D:\Documents\My Dropbox\Mestrado CIn-UFPE\Images\Logo MoDCS Group.png"/>
          <p:cNvPicPr/>
          <p:nvPr/>
        </p:nvPicPr>
        <p:blipFill>
          <a:blip r:embed="rId4"/>
          <a:stretch/>
        </p:blipFill>
        <p:spPr>
          <a:xfrm>
            <a:off x="1982880" y="6870600"/>
            <a:ext cx="136836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396720" y="6686640"/>
            <a:ext cx="174636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Line 2"/>
          <p:cNvSpPr/>
          <p:nvPr/>
        </p:nvSpPr>
        <p:spPr>
          <a:xfrm>
            <a:off x="555480" y="1666800"/>
            <a:ext cx="7999560" cy="1800"/>
          </a:xfrm>
          <a:prstGeom prst="line">
            <a:avLst/>
          </a:prstGeom>
          <a:ln w="698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3"/>
          <p:cNvSpPr/>
          <p:nvPr/>
        </p:nvSpPr>
        <p:spPr>
          <a:xfrm>
            <a:off x="1084320" y="6826320"/>
            <a:ext cx="8597880" cy="144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7513560" y="1031760"/>
            <a:ext cx="2168640" cy="836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216000"/>
            <a:ext cx="9129600" cy="1471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Gill Sans MT Condensed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07960" y="2063880"/>
            <a:ext cx="9129600" cy="5016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62120" y="6942240"/>
            <a:ext cx="210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470400" y="6942240"/>
            <a:ext cx="3203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7280280" y="6942240"/>
            <a:ext cx="2090880" cy="480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DF3FE-61FC-42C4-8242-CD1CA9A62B8D}" type="slidenum">
              <a:rPr b="0" lang="pt-B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8229600" y="7075440"/>
            <a:ext cx="236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49C79-9C53-4503-9555-C180F1A1D25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2"/>
          <a:stretch/>
        </p:blipFill>
        <p:spPr>
          <a:xfrm>
            <a:off x="396720" y="6686640"/>
            <a:ext cx="1746360" cy="907920"/>
          </a:xfrm>
          <a:prstGeom prst="rect">
            <a:avLst/>
          </a:prstGeom>
          <a:ln w="0">
            <a:noFill/>
          </a:ln>
        </p:spPr>
      </p:pic>
      <p:sp>
        <p:nvSpPr>
          <p:cNvPr id="93" name="Line 2"/>
          <p:cNvSpPr/>
          <p:nvPr/>
        </p:nvSpPr>
        <p:spPr>
          <a:xfrm>
            <a:off x="555480" y="1666800"/>
            <a:ext cx="7999560" cy="1800"/>
          </a:xfrm>
          <a:prstGeom prst="line">
            <a:avLst/>
          </a:prstGeom>
          <a:ln w="698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3"/>
          <p:cNvSpPr/>
          <p:nvPr/>
        </p:nvSpPr>
        <p:spPr>
          <a:xfrm>
            <a:off x="1084320" y="6826320"/>
            <a:ext cx="8597880" cy="144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7513560" y="1031760"/>
            <a:ext cx="2168640" cy="836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70400" y="7062840"/>
            <a:ext cx="32176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3"/>
          </p:nvPr>
        </p:nvSpPr>
        <p:spPr>
          <a:xfrm>
            <a:off x="7280280" y="7062480"/>
            <a:ext cx="235728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A5355-315D-46CA-81D9-F219EAAC9FA6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4"/>
          </p:nvPr>
        </p:nvSpPr>
        <p:spPr>
          <a:xfrm>
            <a:off x="507600" y="6943320"/>
            <a:ext cx="23576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3472920" y="6943320"/>
            <a:ext cx="3210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8377200" y="7075440"/>
            <a:ext cx="236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1DE11-628F-4F83-83D9-F783AE867DE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396720" y="6686640"/>
            <a:ext cx="1746360" cy="907920"/>
          </a:xfrm>
          <a:prstGeom prst="rect">
            <a:avLst/>
          </a:prstGeom>
          <a:ln w="0">
            <a:noFill/>
          </a:ln>
        </p:spPr>
      </p:pic>
      <p:sp>
        <p:nvSpPr>
          <p:cNvPr id="141" name="Line 2"/>
          <p:cNvSpPr/>
          <p:nvPr/>
        </p:nvSpPr>
        <p:spPr>
          <a:xfrm>
            <a:off x="555480" y="1666800"/>
            <a:ext cx="7999560" cy="1800"/>
          </a:xfrm>
          <a:prstGeom prst="line">
            <a:avLst/>
          </a:prstGeom>
          <a:ln w="698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1084320" y="6826320"/>
            <a:ext cx="8597880" cy="144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7513560" y="1031760"/>
            <a:ext cx="2168640" cy="836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942240"/>
            <a:ext cx="210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470400" y="6942240"/>
            <a:ext cx="3203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8229600" y="7075440"/>
            <a:ext cx="236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E7F45-7C1F-40FC-A4D9-68A5FAD2FA6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2" descr="D:\Documents\My Dropbox\Mestrado CIn-UFPE\Images\Logo MoDCS Group.png"/>
          <p:cNvPicPr/>
          <p:nvPr/>
        </p:nvPicPr>
        <p:blipFill>
          <a:blip r:embed="rId4"/>
          <a:stretch/>
        </p:blipFill>
        <p:spPr>
          <a:xfrm>
            <a:off x="1982880" y="6870600"/>
            <a:ext cx="1368360" cy="468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216000"/>
            <a:ext cx="9129600" cy="1471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Gill Sans MT Condensed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7960" y="2063880"/>
            <a:ext cx="9129600" cy="5016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6"/>
          </p:nvPr>
        </p:nvSpPr>
        <p:spPr>
          <a:xfrm>
            <a:off x="7280280" y="6942240"/>
            <a:ext cx="2090880" cy="480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1E809-21D2-4042-9F90-D10A712A81C2}" type="slidenum">
              <a:rPr b="0" lang="pt-B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2"/>
          <a:stretch/>
        </p:blipFill>
        <p:spPr>
          <a:xfrm>
            <a:off x="396720" y="6686640"/>
            <a:ext cx="1746360" cy="907920"/>
          </a:xfrm>
          <a:prstGeom prst="rect">
            <a:avLst/>
          </a:prstGeom>
          <a:ln w="0">
            <a:noFill/>
          </a:ln>
        </p:spPr>
      </p:pic>
      <p:sp>
        <p:nvSpPr>
          <p:cNvPr id="188" name="Line 2"/>
          <p:cNvSpPr/>
          <p:nvPr/>
        </p:nvSpPr>
        <p:spPr>
          <a:xfrm>
            <a:off x="555480" y="1666800"/>
            <a:ext cx="7999560" cy="1800"/>
          </a:xfrm>
          <a:prstGeom prst="line">
            <a:avLst/>
          </a:prstGeom>
          <a:ln w="698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3"/>
          <p:cNvSpPr/>
          <p:nvPr/>
        </p:nvSpPr>
        <p:spPr>
          <a:xfrm>
            <a:off x="1084320" y="6826320"/>
            <a:ext cx="8597880" cy="144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3"/>
          <a:stretch/>
        </p:blipFill>
        <p:spPr>
          <a:xfrm>
            <a:off x="7513560" y="1031760"/>
            <a:ext cx="2168640" cy="836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762120" y="6942240"/>
            <a:ext cx="210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470400" y="6942240"/>
            <a:ext cx="3203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8229600" y="7075440"/>
            <a:ext cx="236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7870D-BA91-4744-B47D-264E8CD1C2F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2" descr="D:\Documents\My Dropbox\Mestrado CIn-UFPE\Images\Logo MoDCS Group.png"/>
          <p:cNvPicPr/>
          <p:nvPr/>
        </p:nvPicPr>
        <p:blipFill>
          <a:blip r:embed="rId4"/>
          <a:stretch/>
        </p:blipFill>
        <p:spPr>
          <a:xfrm>
            <a:off x="1982880" y="6870600"/>
            <a:ext cx="1368360" cy="4683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216000"/>
            <a:ext cx="9129600" cy="1471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Gill Sans MT Condensed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7960" y="2063880"/>
            <a:ext cx="9129600" cy="5016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7"/>
          </p:nvPr>
        </p:nvSpPr>
        <p:spPr>
          <a:xfrm>
            <a:off x="7280280" y="6942240"/>
            <a:ext cx="2090880" cy="480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757D7-4802-489B-8474-60585BC8D8E0}" type="slidenum">
              <a:rPr b="0" lang="pt-BR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2"/>
          <a:stretch/>
        </p:blipFill>
        <p:spPr>
          <a:xfrm>
            <a:off x="396720" y="6686640"/>
            <a:ext cx="1746360" cy="907920"/>
          </a:xfrm>
          <a:prstGeom prst="rect">
            <a:avLst/>
          </a:prstGeom>
          <a:ln w="0">
            <a:noFill/>
          </a:ln>
        </p:spPr>
      </p:pic>
      <p:sp>
        <p:nvSpPr>
          <p:cNvPr id="235" name="Line 2"/>
          <p:cNvSpPr/>
          <p:nvPr/>
        </p:nvSpPr>
        <p:spPr>
          <a:xfrm>
            <a:off x="555480" y="1666800"/>
            <a:ext cx="7999560" cy="1800"/>
          </a:xfrm>
          <a:prstGeom prst="line">
            <a:avLst/>
          </a:prstGeom>
          <a:ln w="698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1084320" y="6826320"/>
            <a:ext cx="8597880" cy="144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7513560" y="1031760"/>
            <a:ext cx="2168640" cy="836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470400" y="7062840"/>
            <a:ext cx="32176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8377200" y="7075440"/>
            <a:ext cx="236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7601B-1327-4C2A-BEA5-3FA8EEFD51E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2" descr="D:\Documents\My Dropbox\Mestrado CIn-UFPE\Images\Logo MoDCS Group.png"/>
          <p:cNvPicPr/>
          <p:nvPr/>
        </p:nvPicPr>
        <p:blipFill>
          <a:blip r:embed="rId4"/>
          <a:stretch/>
        </p:blipFill>
        <p:spPr>
          <a:xfrm>
            <a:off x="1982880" y="6870600"/>
            <a:ext cx="1368360" cy="468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32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07600" y="1782720"/>
            <a:ext cx="91328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8"/>
          </p:nvPr>
        </p:nvSpPr>
        <p:spPr>
          <a:xfrm>
            <a:off x="7280280" y="7062480"/>
            <a:ext cx="235728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A7DE1-B9CB-4696-B4A7-2580160FC62B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9"/>
          </p:nvPr>
        </p:nvSpPr>
        <p:spPr>
          <a:xfrm>
            <a:off x="507600" y="6943320"/>
            <a:ext cx="23576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0"/>
          </p:nvPr>
        </p:nvSpPr>
        <p:spPr>
          <a:xfrm>
            <a:off x="3472920" y="6943320"/>
            <a:ext cx="3210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758880" y="2232000"/>
            <a:ext cx="8785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ation of Software Aging Effects in Elastic Storage Mechanisms for Private Clou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1046160" y="3544920"/>
            <a:ext cx="8066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ubens Matos, Jean Araujo, Vandi Alves and Paulo Maci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senter: Vandi Alves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ederal University of Pernambuco, Braz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tângulo 1"/>
          <p:cNvSpPr/>
          <p:nvPr/>
        </p:nvSpPr>
        <p:spPr>
          <a:xfrm>
            <a:off x="542880" y="5402160"/>
            <a:ext cx="90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4th International Workshop on Software Aging and Rejuvenation (WoSAR 201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las, Texas, U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8880" y="237960"/>
            <a:ext cx="8569440" cy="148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ult Analysis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87240" y="2220840"/>
            <a:ext cx="8783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PU utilization of the KVM process related to the VM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creases and reaches more than 80% in average, wi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aks of 100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3" descr="Captura de tela 2012-11-25 às 14.38.59.png"/>
          <p:cNvPicPr/>
          <p:nvPr/>
        </p:nvPicPr>
        <p:blipFill>
          <a:blip r:embed="rId1"/>
          <a:stretch/>
        </p:blipFill>
        <p:spPr>
          <a:xfrm>
            <a:off x="2919240" y="3232080"/>
            <a:ext cx="4422960" cy="34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58880" y="237960"/>
            <a:ext cx="8569440" cy="148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ult Analysis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687240" y="2220840"/>
            <a:ext cx="87836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can be considered the most critical result observed in thi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udy, because such a high CPU utilization can make the syst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king too much time to respond and even cause failures in th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ecution of new reques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8880" y="237960"/>
            <a:ext cx="8569440" cy="148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ult Analysis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471600" y="2874960"/>
            <a:ext cx="90723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ame resources were monitored inside the VM but no increase in both CPU or memory was noticed, therefore the hypervisor(KVM) is the most likely faulty point in the environ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8880" y="237960"/>
            <a:ext cx="8569440" cy="148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ult Analysis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315" name="TextBox 2"/>
          <p:cNvSpPr/>
          <p:nvPr/>
        </p:nvSpPr>
        <p:spPr>
          <a:xfrm>
            <a:off x="471600" y="1722600"/>
            <a:ext cx="9072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response time for the http requests was around 250 milliseconds and it reached more than 6 seconds in the end of the experiment, evidencing a big impact to the quality of service for end-users due the software aging phenomen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3" descr="Captura de tela 2012-11-25 às 14.41.09.png"/>
          <p:cNvPicPr/>
          <p:nvPr/>
        </p:nvPicPr>
        <p:blipFill>
          <a:blip r:embed="rId1"/>
          <a:stretch/>
        </p:blipFill>
        <p:spPr>
          <a:xfrm>
            <a:off x="2343240" y="3378240"/>
            <a:ext cx="467028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8880" y="237960"/>
            <a:ext cx="8569440" cy="148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ult Analysis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318" name="TextBox 2"/>
          <p:cNvSpPr/>
          <p:nvPr/>
        </p:nvSpPr>
        <p:spPr>
          <a:xfrm>
            <a:off x="471600" y="1722600"/>
            <a:ext cx="9072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orrelation analysis was performed to identify the relationship between the degradation of response time and the other performance measures in the same machi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arson’s R correlation index was computed. High correlation detected between the variable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1622520" y="4819680"/>
            <a:ext cx="6272280" cy="1177920"/>
          </a:xfrm>
          <a:prstGeom prst="rect">
            <a:avLst/>
          </a:prstGeom>
          <a:ln w="0">
            <a:noFill/>
          </a:ln>
        </p:spPr>
      </p:pic>
      <p:sp>
        <p:nvSpPr>
          <p:cNvPr id="320" name="CaixaDeTexto 1"/>
          <p:cNvSpPr/>
          <p:nvPr/>
        </p:nvSpPr>
        <p:spPr>
          <a:xfrm>
            <a:off x="4024800" y="4383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rrelation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8880" y="237960"/>
            <a:ext cx="8569440" cy="148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ult Analysis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322" name="Shape 248"/>
          <p:cNvSpPr/>
          <p:nvPr/>
        </p:nvSpPr>
        <p:spPr>
          <a:xfrm>
            <a:off x="4902120" y="2514600"/>
            <a:ext cx="4527720" cy="3765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CaixaDeTexto 1"/>
          <p:cNvSpPr/>
          <p:nvPr/>
        </p:nvSpPr>
        <p:spPr>
          <a:xfrm>
            <a:off x="687240" y="2658960"/>
            <a:ext cx="395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nce memory usage had a small increase, and swap usage is not grow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rease in CPU utilization is the most likely cause for response time degrad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8880" y="210960"/>
            <a:ext cx="8569440" cy="148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nal Remarks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760320" y="2370240"/>
            <a:ext cx="88552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04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high CPU utilization  highlighted possible faults related to EBS volumes management supported by the KVM hypervis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4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4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KVM is used in many Linux-based virtualized environments, the aging symptoms showed here may also occur in other systems besides the Eucalyptus-based 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954000" y="538200"/>
            <a:ext cx="902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507960" y="1881360"/>
            <a:ext cx="9142560" cy="46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3200400" y="2739960"/>
            <a:ext cx="32367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5600" y="685800"/>
            <a:ext cx="90709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9960" y="2227320"/>
            <a:ext cx="87836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lated Work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al Stud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ult Analy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nal Remark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0320" y="685800"/>
            <a:ext cx="86392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roduction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0320" y="2514600"/>
            <a:ext cx="863928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oud Compu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1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amentally provide access to large pools of data and computational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1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-based architectures are designed to be scalable, cost-effective and to provide a robust service plat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0320" y="685800"/>
            <a:ext cx="88552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roduction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0320" y="2514240"/>
            <a:ext cx="8855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aS Framewor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580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5800"/>
                <a:tab algn="l" pos="528480"/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astic block storage provides flexible allocation of remote storage volumes to the virtual machi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4308480" y="119376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4" descr="Captura de tela 2012-11-26 às 03.17.18.png"/>
          <p:cNvPicPr/>
          <p:nvPr/>
        </p:nvPicPr>
        <p:blipFill>
          <a:blip r:embed="rId1"/>
          <a:stretch/>
        </p:blipFill>
        <p:spPr>
          <a:xfrm>
            <a:off x="2806560" y="4976640"/>
            <a:ext cx="464832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0320" y="685800"/>
            <a:ext cx="88552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lated Works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0320" y="2370240"/>
            <a:ext cx="8855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erences from this paper to our previous work*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orkload is to the KVM hypervisor directly (libvirt interface) and not through the Eucalyptus N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try to isolate the hypervisor from the Eucalyptus framewor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paper also gives a more detailed view on the aging effects by performing a correlation analysis with the collected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614520" y="6043680"/>
            <a:ext cx="936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*R.MatosJunior,J.Araujo,V.Alves,P.Maciel,Experimental evaluation of software aging effects in the eucalyptus elastic block storage, in: Proceedings of the IEEE Int. Conf. on Systems, Man, and Cybernetics (SMC’12), Seoul, Korea, 20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3040" y="4572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al Study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42880" y="2082960"/>
            <a:ext cx="9072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orkload used in this paper was designed to accelerate possible faults and the occurrence of related aging sympto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ell Scrip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operations are issued using the virsh utility, which is part of the Libvirt, a software collection to manage virtual machi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3040" y="4572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al Study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42880" y="2082960"/>
            <a:ext cx="9072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estbed uses one KVM virtual machine instantiated in a host with an Intel Core2Quad 2.66 GHz CPU, 4 GB of RAM, and a 250 GB SATA hard d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Apache HTTP server runs on the V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measured the response time of a simple page hosted in the VM, while running the aging acceleration work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3040" y="4572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al Study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2880" y="2082600"/>
            <a:ext cx="907272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a storage volume is attached to the VM, the script waits 20 seconds to detach that volume. After that, the script waits 10 seconds to attach a new volume to the V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hape 223"/>
          <p:cNvSpPr/>
          <p:nvPr/>
        </p:nvSpPr>
        <p:spPr>
          <a:xfrm>
            <a:off x="2487600" y="3451320"/>
            <a:ext cx="4751280" cy="32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3040" y="4572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al Study</a:t>
            </a:r>
            <a:endParaRPr b="1" lang="en-US" sz="4000" spc="-1" strike="noStrike">
              <a:solidFill>
                <a:srgbClr val="000000"/>
              </a:solidFill>
              <a:latin typeface="Gill Sans MT Condense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42880" y="2082600"/>
            <a:ext cx="907272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growth of about 15 MB in the virtual and resident memory used by the Node Controller after 8 days of experi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4" descr="Captura de tela 2012-11-25 às 14.36.53.png"/>
          <p:cNvPicPr/>
          <p:nvPr/>
        </p:nvPicPr>
        <p:blipFill>
          <a:blip r:embed="rId1"/>
          <a:stretch/>
        </p:blipFill>
        <p:spPr>
          <a:xfrm>
            <a:off x="2774880" y="3162240"/>
            <a:ext cx="4464000" cy="357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Vandi Alves de Lira Neto</cp:lastModifiedBy>
  <dcterms:modified xsi:type="dcterms:W3CDTF">2013-03-25T01:41:22Z</dcterms:modified>
  <cp:revision>305</cp:revision>
  <dc:subject/>
  <dc:title>PowerPoint Presentation</dc:title>
</cp:coreProperties>
</file>